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5D3-951C-4C78-975A-000CC729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023-C417-4C1A-AF2E-A46EE708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052-2C40-4F18-9077-AEA37F0B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30C-AD2E-497D-B777-1E52027B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962-6638-4C46-A582-BB2E57DD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E60-35BB-4E23-9433-754DA719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E6E-7E75-47C7-947B-66A86C79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54BF-6738-4421-A037-F7E20AFA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2401-F71B-4B04-939A-A343E3E5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BAA-7138-4254-A400-CD6A39D1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2F73-F3B8-47E0-A190-37C5A948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C47F-D191-464F-9BBC-F7A6E5DF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ACBA-422F-41F1-90E4-BFE116AA2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Social Stud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bject You Will T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vist Teaching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 that is child-centered in approach and focuses on knowledge construction, not knowledge rep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s that students interpret new objects and events by trying to alter or modify existing mental structures that had formed as a result of their previous life experi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insic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ernal impulse that provokes us to action or keeps us absorbed in certai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Pl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mpe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Self-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Curricular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ing ways to bring together the various subject areas and relating the content to a central th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obvious connections between the arts, humanities, and physical sci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ect for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ng instruction to meet the special needs, talents, and interests of all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n awareness and consideration of each youngster as a distinct individu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ocial Stud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ocial Sci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fers to several multifaceted disciplines that seek knowledge about societies and the relationships of individuals within socie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cial Stud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s the title for the school subject that provides for a systematic study of the social sciences in a coordinated, integrated fash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cial Sc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Geograp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study of people and places, the natural environment, and the capacity of the earth to support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Hi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systematic research, analysis, and interpretation of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ivics (Political Science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tudy of the origin, development, and operation of political systems and public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cial Sciences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nthropolog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udy of people to find out about their physical, social, and cultur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5. Sociolog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udy of society and social behavior by examining groups and social institutions such as the family, government, religion, business, or schoo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6. 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udy of the production, distribution and consumption of goods and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Social Studies Impor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’s 1916 initiative: helping prepare youth for constructive participation in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tion of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Goals of Elementary Social Stu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Values and Beli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elp children understand the core civic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Knowledg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 children construct meaning by connecting new learning to previous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inking Ski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help children acquire and process information to investigate problems and make informed deci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Social Stud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ing children in a classroom environment that encourages them to rediscover the young social scientists 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vist teaching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insic 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curricular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 for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al Cont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iculum Scope and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Expanding Environment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Kindergarten: Myself an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33cc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grade: School and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grade: Neighbor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66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grade: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grade: Region an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5</a:t>
            </a:r>
            <a:r>
              <a:rPr b="1" lang="en-US" sz="28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grade: United States and Close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6</a:t>
            </a:r>
            <a:r>
              <a:rPr b="1" lang="en-US" sz="2800" spc="-1" strike="noStrike" baseline="30000">
                <a:solidFill>
                  <a:srgbClr val="006666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grade: Eastern Hemi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7</a:t>
            </a:r>
            <a:r>
              <a:rPr b="1" lang="en-US" sz="2800" spc="-1" strike="noStrike" baseline="30000">
                <a:solidFill>
                  <a:srgbClr val="cc0099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grade: Western Hemi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8</a:t>
            </a:r>
            <a:r>
              <a:rPr b="1" lang="en-US" sz="2800" spc="-1" strike="noStrike" baseline="30000">
                <a:solidFill>
                  <a:srgbClr val="339933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grade: The United State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al Cont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CSS Curriculum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Time, Continuity, an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eople, Places, an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dividu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ndividuals, Groups, and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Power, Authority, and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Production, Distribution, and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cience, Technology, and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Globa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ivic Ideals an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52280" y="61768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im</a:t>
            </a:r>
            <a:br>
              <a:rPr sz="900"/>
            </a:b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Dynamic Social Studies for Constructivist Classrooms, 8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6781680" y="617688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2006 by Pearson Education, Inc.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23:05:56Z</dcterms:created>
  <dc:creator>scott1rm</dc:creator>
  <dc:description/>
  <dc:language>en-US</dc:language>
  <cp:lastModifiedBy>t60image</cp:lastModifiedBy>
  <dcterms:modified xsi:type="dcterms:W3CDTF">2009-01-07T00:07:48Z</dcterms:modified>
  <cp:revision>28</cp:revision>
  <dc:subject/>
  <dc:title>Dynamic Social Studies:</dc:title>
</cp:coreProperties>
</file>